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5223-3C7F-4EB0-B1A3-165EDD7D5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9F97-674B-4A10-BAA9-98D39E77B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4034-B624-42E6-8E68-68E0908DFC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8AC9-A00E-4998-B05A-9DC62AF6E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B461-C420-4247-B29B-E06C2366CE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532B-01B8-4E93-A055-4213E4231C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F57E-4EA7-48C6-B75F-4ABC765BBB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6C26-A974-432B-A753-D620D7F5FB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A584-5699-4E48-908E-044C316CC6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3820-3EFA-4C26-9FD7-8B712D590B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75F2-B1E9-4068-A66F-95D4073855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FA4E-DACC-429E-ABD7-0E0E2916F4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F81F-6AA0-46B5-B2A0-0E0DEF100C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3013-EC1F-483D-B656-EACED0B7EC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08C7-03C3-4B14-AC18-7F2F3121A3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DF18-C026-4B6F-A3D5-D419619677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E08-78F6-44C6-838A-AA2B3645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10D-1C92-40F3-8746-6D4A3A7D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2DC-C831-4F73-9C8C-DD108511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CF8-A9C3-4F79-B227-5B2D28D0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11A-E006-4E90-B5A0-8DF98E6F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8FF-F760-49E1-9C56-AE882DCC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69E-EA80-45B4-B389-047CB184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CE0-8D47-41A9-8DC0-99E5ED59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41F-65AC-469E-B64A-3C9B90B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D89-F28E-422D-A181-ECF67E4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4E8-D52E-43CE-B328-FBACBC01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317-7D79-4AD0-96D6-CFA532AA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B69D-5D62-4D7E-AFDE-81FCC3CB76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E8EE-6A8D-4A99-8A1F-7177186A3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L_14.jpg"/>
          <p:cNvPicPr/>
          <p:nvPr/>
        </p:nvPicPr>
        <p:blipFill>
          <a:blip r:embed="rId1"/>
          <a:stretch/>
        </p:blipFill>
        <p:spPr>
          <a:xfrm>
            <a:off x="903240" y="380880"/>
            <a:ext cx="7337520" cy="57452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ологические пробл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gpw-2007.jpg"/>
          <p:cNvPicPr/>
          <p:nvPr/>
        </p:nvPicPr>
        <p:blipFill>
          <a:blip r:embed="rId1"/>
          <a:stretch/>
        </p:blipFill>
        <p:spPr>
          <a:xfrm>
            <a:off x="1714680" y="1954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ush_02.jpg"/>
          <p:cNvPicPr/>
          <p:nvPr/>
        </p:nvPicPr>
        <p:blipFill>
          <a:blip r:embed="rId1"/>
          <a:stretch/>
        </p:blipFill>
        <p:spPr>
          <a:xfrm>
            <a:off x="949320" y="154080"/>
            <a:ext cx="7280280" cy="60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proval.jpg"/>
          <p:cNvPicPr/>
          <p:nvPr/>
        </p:nvPicPr>
        <p:blipFill>
          <a:blip r:embed="rId1"/>
          <a:stretch/>
        </p:blipFill>
        <p:spPr>
          <a:xfrm>
            <a:off x="19368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3154214.jpg"/>
          <p:cNvPicPr/>
          <p:nvPr/>
        </p:nvPicPr>
        <p:blipFill>
          <a:blip r:embed="rId1"/>
          <a:stretch/>
        </p:blipFill>
        <p:spPr>
          <a:xfrm>
            <a:off x="1679400" y="1708200"/>
            <a:ext cx="5748480" cy="431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42972_20001128024257.jpg"/>
          <p:cNvPicPr/>
          <p:nvPr/>
        </p:nvPicPr>
        <p:blipFill>
          <a:blip r:embed="rId1"/>
          <a:stretch/>
        </p:blipFill>
        <p:spPr>
          <a:xfrm>
            <a:off x="685800" y="533520"/>
            <a:ext cx="7462800" cy="5595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42977_20001128040423.jpg"/>
          <p:cNvPicPr/>
          <p:nvPr/>
        </p:nvPicPr>
        <p:blipFill>
          <a:blip r:embed="rId1"/>
          <a:stretch/>
        </p:blipFill>
        <p:spPr>
          <a:xfrm>
            <a:off x="762120" y="533520"/>
            <a:ext cx="7615080" cy="5709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26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x_2096e571.jpg"/>
          <p:cNvPicPr/>
          <p:nvPr/>
        </p:nvPicPr>
        <p:blipFill>
          <a:blip r:embed="rId1"/>
          <a:stretch/>
        </p:blipFill>
        <p:spPr>
          <a:xfrm>
            <a:off x="1074600" y="1905120"/>
            <a:ext cx="6850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143532_081.jpg"/>
          <p:cNvPicPr/>
          <p:nvPr/>
        </p:nvPicPr>
        <p:blipFill>
          <a:blip r:embed="rId1"/>
          <a:stretch/>
        </p:blipFill>
        <p:spPr>
          <a:xfrm>
            <a:off x="2743200" y="1957320"/>
            <a:ext cx="315756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43674_101.jpg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1157587_Kopiya_02.jpg"/>
          <p:cNvPicPr/>
          <p:nvPr/>
        </p:nvPicPr>
        <p:blipFill>
          <a:blip r:embed="rId1"/>
          <a:stretch/>
        </p:blipFill>
        <p:spPr>
          <a:xfrm>
            <a:off x="306360" y="457200"/>
            <a:ext cx="837252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1146916_331.jpg"/>
          <p:cNvPicPr/>
          <p:nvPr/>
        </p:nvPicPr>
        <p:blipFill>
          <a:blip r:embed="rId1"/>
          <a:stretch/>
        </p:blipFill>
        <p:spPr>
          <a:xfrm>
            <a:off x="488880" y="533520"/>
            <a:ext cx="835020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3856361cca.jpg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c1708be02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7b1ceeb9e4.jpg"/>
          <p:cNvPicPr/>
          <p:nvPr/>
        </p:nvPicPr>
        <p:blipFill>
          <a:blip r:embed="rId1"/>
          <a:stretch/>
        </p:blipFill>
        <p:spPr>
          <a:xfrm>
            <a:off x="1600200" y="68580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819520"/>
          <a:ext cx="8458200" cy="27432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показателями целостности и взаимосвязи современного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решения этих проблем способствует становлению единой циви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cap="rnd"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лобальны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колог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нергет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«Север-Юг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графическая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ждународный террор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cap="rnd"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ификация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8381880" cy="4267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тическ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логи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озникновение локальных конфли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рниковый эффе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мографическая ситуа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родовольственная пробл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асность ядерн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грязнение атмосферы, вод Мирового оке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еренаселённый «Юг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люса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ие политических сист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«Озоновая дыр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еррориз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стощение ресур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rnd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11280"/>
            <a:ext cx="8315280" cy="4554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блема войны и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Barhem_U-331_11_1941_vzriv_pogreba.jpg"/>
          <p:cNvPicPr/>
          <p:nvPr/>
        </p:nvPicPr>
        <p:blipFill>
          <a:blip r:embed="rId1"/>
          <a:stretch/>
        </p:blipFill>
        <p:spPr>
          <a:xfrm>
            <a:off x="1346040" y="1600200"/>
            <a:ext cx="6451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bron_1.jpg"/>
          <p:cNvPicPr/>
          <p:nvPr/>
        </p:nvPicPr>
        <p:blipFill>
          <a:blip r:embed="rId1"/>
          <a:stretch/>
        </p:blipFill>
        <p:spPr>
          <a:xfrm>
            <a:off x="457200" y="846000"/>
            <a:ext cx="8229600" cy="458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Prin_nagrada.jpg"/>
          <p:cNvPicPr/>
          <p:nvPr/>
        </p:nvPicPr>
        <p:blipFill>
          <a:blip r:embed="rId1"/>
          <a:stretch/>
        </p:blipFill>
        <p:spPr>
          <a:xfrm>
            <a:off x="1535040" y="304920"/>
            <a:ext cx="6073920" cy="58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50Z</dcterms:modified>
  <cp:revision>27</cp:revision>
  <dc:subject/>
  <dc:title>Глобальные проблемы современности.</dc:title>
</cp:coreProperties>
</file>